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F3E8-AE1E-4D1B-97F5-D36A179D9B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1C09-CE17-45CB-9D26-5491C509A7BF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66BAF-CFF2-41C8-823E-12151B0D9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8BD5B-6430-4A7B-9267-E50FA569A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9C03C-73E2-4276-96BB-4BE8C9FA7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C9547-7A12-4614-B06A-6F3632040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7C615-5EC4-4AD0-91D7-E8060562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F0ABD-5FD5-41A4-B273-87D1F405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5C37B-ECEF-4FDA-A072-459256D8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B6119-F7DA-4567-8D91-3F42056F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80821-0729-4F45-B2EC-2BB92D60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BB5C8-8869-4E21-9B3D-DFB190F1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36883-4E31-4BF6-8D3E-3D2A6E3B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FF4C3-2A59-43DA-B384-AF096B684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7BA8C-FD1A-4AD4-890C-1B4FD17A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3788D-F40B-466F-9C69-5E84E7A6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525BC-DACD-4C77-95AE-AD705141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07CFF-3D32-49D4-876F-32DF1FD4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45D35-2457-4E47-BD79-450404C3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686F4B-5148-46AB-B50C-43F0CC76A3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116A49-B03C-46D7-AF48-4789947218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E7A2B3-8FE1-4AC4-BF77-9D3CC7BFC6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9E3538-5CCC-4092-B3A1-3971FFDD8A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66DF01-CEB1-47E9-81DD-5604D175F1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BD74C-775C-473E-96D6-36BF653468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41C2CA-3971-4387-85DF-0C77C6D913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FBB8AC-ECC5-4421-8EB2-1155B3BCC7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071937-BDA3-4096-84AB-50611639B9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88CCF9-62DC-49F2-9F48-2B792F97FF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BD08CF-5A12-4024-9504-BA909569E5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EC2559-AD86-44DD-9B1C-3655A31967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7CD9C0-5FFA-4AE6-B7EB-A45340789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597B5-BF2A-4D47-8478-11B8971D6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D2DB0-E107-4820-BF2C-A7F7DAEC3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C9EAB-503B-4F57-9BBF-E0CC4453C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4935-F05B-47FD-98FC-DED18FC07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EAACA-C415-4DB7-ABAF-FAB751935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1846-CC77-4770-9182-994D412F8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C71B244-5D1F-429A-A3F9-85B9185045E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ED25D70-A111-40BC-AEFB-C3BC3862C7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260208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8A8C-2A50-47B3-B6CA-9A5C516E0E4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2" descr=""/>
          <p:cNvPicPr/>
          <p:nvPr/>
        </p:nvPicPr>
        <p:blipFill>
          <a:blip r:embed="rId2"/>
          <a:stretch/>
        </p:blipFill>
        <p:spPr>
          <a:xfrm>
            <a:off x="5508720" y="519120"/>
            <a:ext cx="3024000" cy="573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6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7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674D6CC7-045E-4611-8089-CBA38CE4BF3A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5722C4FE-4463-46FE-8465-C9465471E7C8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9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93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205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6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217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2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6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89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95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314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318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322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337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341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7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48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52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0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3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4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7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02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5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76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9-01-24T10:24:00Z</dcterms:modified>
  <cp:revision>369</cp:revision>
  <dc:subject/>
  <dc:title>No Slide Title</dc:title>
</cp:coreProperties>
</file>